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634-4030-43FA-8409-D5E23248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279-7B11-4C5E-8E8F-4BECDB0C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79F15-7BE8-45FC-B816-0C199629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554E6-F8D6-433B-A0AF-1DA0C7A9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BD752-BA81-4D3C-99F3-FEB34144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E4928-6E81-4E92-9981-9C9A39D3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E32BC-A25D-4F49-A113-E875836C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F492D-0739-48DA-8D64-1A30B6A5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1EF90-DF48-4EEA-9BE9-28141904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11747-6002-40E1-9892-33146D5B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B65AD-7811-480C-883F-0C35016E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49A6E-7B35-469E-A6CC-68BAE72D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784-8452-45FE-9077-7DD1C078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333B5-8294-441D-A4EE-18F04976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165E5-CE48-4870-A058-7C2C5630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58A09-DE2B-4E74-A857-401629C2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76EF1-3390-4743-A5B2-CFDA4B4C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245B8-5D77-4458-9263-2B5E0288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ACD1A-E640-4205-BB8D-B6F05633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A74BE-AEE9-4BCF-A0F1-CC5EE0DC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9F0B8-00F5-406A-8ACC-9EDB95CD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DB93C-A381-48D8-9489-623C14F1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B7CFF-3F64-437E-A173-A69F80B1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D5B-69D0-483E-B217-75EBA339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76AFB-8D0E-4F08-A435-ED042B3A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82FB5-8AEB-4724-9FB3-5BE9B19E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A5AE9-F30F-4A14-921F-63C4C846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D4D6A-8C63-4A66-864D-C208D31D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2E613-3F14-4586-AD45-9220E9A2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861EB-2A4B-4D14-B774-86A0AD2D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19A04-BE04-4FEB-8244-20E3907D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1A60F-1179-4B6A-A081-BF042977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53208-767F-4DC5-A4D8-EECBB707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61CC0-9D1D-4B94-A2DF-12436E19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9C47-1530-44D8-A5F9-21C8CAC4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FEECE-64C0-42CA-8656-7851A10F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8DDE4-3A34-480C-A493-EB500A9D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42731-6406-4282-90CA-B4E3A53A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61CD-BD10-4191-B5FC-9BFBC446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B737-4AD7-4DAA-8D95-B2DD1777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E87B-FAB4-45B1-938A-38270178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A3E9-FB14-48A2-8886-134D285E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0DD7-AB1A-458F-B659-3D98DF59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CE97-D495-4012-8F4B-E9DF5AE7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170-E962-4CC9-BE94-05311DCD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4FE0-516D-41BA-B0E8-9D01424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582F-C817-457A-923A-5CC6397B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2CCD-23FC-40D4-A5AE-C6D80C72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FEC9-A60E-42F1-BB4C-39CF2800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685B-92B1-4269-8BCC-DA157E72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1A5E9-3846-418A-B165-4971FB24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449C-DE99-4794-894F-5CB3ECBE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7BD9-B0DC-46CE-A517-9C285DF0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37BB-A49A-4778-9855-C5FADA4D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E6E30-8215-4F7A-83E6-C3D256ED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98A-4940-4AF2-BB66-F6BD876B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D8852-F7AD-40ED-9D7E-999A40A7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0F5F-BF50-4921-BBB3-E0177458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0914-BE5B-4CA0-8F98-C025B1A6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67E7D-BB62-4959-BE7C-756EC57F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4774D-C410-4E5B-8D8C-0122E5D9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C3F8F-A674-4033-958F-057A5BDB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82A8-5CC0-4E8E-83AA-F5F305C4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A8E7D-F176-4BDA-93CD-F4F954A4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B07C-8BE7-4EAF-93C1-47751F91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9690-7FCB-49F4-8781-058CDE45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D73-D3CC-4D79-97DD-54CE955D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703A-5F8D-4077-8C41-804D0F36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A9DB-A710-4FCD-B3DA-3EE21E13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91D7F-4E2A-414F-81BE-8BC04AE7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8D2BC-D292-45BA-91D7-FF98503F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56786-45B4-43CE-9A82-7BBBE6F4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9C9D3-D8A4-4C1A-8F65-2E7D6A1D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FA46-4F73-4B35-8E35-DC9A5549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EB3C-D1A8-4F57-AA0D-D08E874D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FB629-C21C-4592-94AA-3938D32B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4510E-47BD-4249-ADC9-7AAAC847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134-A21E-46BF-8550-9084868A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C563C-01B1-4849-994A-85B41F0F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0C117-76A6-448A-805F-6A443AE4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C8736-21B4-4B5A-9006-6CCB0769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03572-47BD-4D74-942E-940BC476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9E15C-BB65-4F86-A7E8-0D9818E8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7ECC-197E-4BF2-88F4-37CBDD7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DEB22-F617-4CE8-91E8-D7A4AA2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38607-53BD-467F-ABD8-E36695C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3F0B6-0CA9-4A16-A297-F3987C0A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E50D0-4C75-4BC1-AA45-2B3DD22F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4F1-1C54-4DF9-B015-05D77C53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B5CEB-2CC7-461E-8B51-E9D6CDE7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A9A5D-54D2-47D2-B54C-AA797B56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F0972-82E9-4713-A8B5-78EE4EE5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39312-1FCE-44D4-870E-DF990892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3DAF9-CA8C-4552-B3EB-1E9CDE0E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3FD81-0D05-4475-B098-EACD3C5C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B1449-5E8C-4AAB-9B39-542E401E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57DF4-6060-4670-B3A3-DB54D5B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45EBF-CDFA-4D37-BE1F-82E0107F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69CC4-AA56-4C48-B93A-ECA4242B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194-7A3F-4D04-9FCF-32B8DC54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A046C-9296-4074-8F89-598740F3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56415-1E9C-42DE-AE2F-E80CEB1A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C901A-734E-4C93-BA95-F1AF0EC7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47BA0-5F36-4AD7-89C4-BA5FF923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9CB06-D407-43FF-ADBD-B069DE4C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354AE-7720-4B4F-8D6B-C9BCBAFA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B943-E7C6-40A1-B6C7-333DBB9A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04D08-705E-4864-AEEE-062C4CEC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9D88A-5BDF-4184-BD45-5A0B44C6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19BE8-FBF5-4FEA-AC4A-31A2C45C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A86-E20C-4286-8756-098A0757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BDC89-DB78-4719-AE32-3098F4D5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FD3FE-788F-467E-A8E0-55C023EE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6811E-06A5-4E30-865E-3D0BBA79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8E0B8-EB2C-49E4-A7ED-51700D20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E4E2C-EEB7-4A4C-80ED-9BBECA63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C994C-00B4-4CC6-B576-7EA554D3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AB58-3787-4D94-A838-E9180658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F79A5-7548-489A-BFC4-733B2735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5848F-DC6F-4DF1-AF80-ED74FC9C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08512-4C1B-4CA5-AE99-E0209392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9C0-AD43-48AA-AFDD-524DE183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9705D-27F9-43B1-BD88-ACE48119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5C797-E383-4D23-A281-A1C3B64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1E4CB-9EE4-47BC-BFA0-4E01B6CE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F6114-2ECF-4C50-BD8D-305EEC06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77FFE-4E16-4D81-BDB4-C8C71D36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420D0-8301-4AF9-9E86-4F0D91E7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D1D2A-DFFC-44C9-B495-D10F6B41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00EA1-A675-4619-99E8-8A713176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45984-78D9-4406-963C-67DEE6D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8D720-C649-4B3A-9730-CE972481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17760" y="801360"/>
            <a:ext cx="8634240" cy="25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415960" y="328320"/>
            <a:ext cx="4971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43784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1CEE-91A5-4B6F-AD3D-6DA8FFDEBC8A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" name=""/>
          <p:cNvCxnSpPr/>
          <p:nvPr/>
        </p:nvCxnSpPr>
        <p:spPr>
          <a:xfrm>
            <a:off x="2417400" y="3529080"/>
            <a:ext cx="86382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03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4680" y="798120"/>
            <a:ext cx="3271680" cy="22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43240" y="798480"/>
            <a:ext cx="6010200" cy="46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9F8F-3ED1-4BFD-9B84-C3AD3A187F0B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/>
          <p:nvPr/>
        </p:nvCxnSpPr>
        <p:spPr>
          <a:xfrm>
            <a:off x="1447920" y="3204720"/>
            <a:ext cx="327096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48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grpSp>
        <p:nvGrpSpPr>
          <p:cNvPr id="449" name=""/>
          <p:cNvGrpSpPr/>
          <p:nvPr/>
        </p:nvGrpSpPr>
        <p:grpSpPr>
          <a:xfrm>
            <a:off x="7477200" y="482760"/>
            <a:ext cx="4071960" cy="5146560"/>
            <a:chOff x="7477200" y="482760"/>
            <a:chExt cx="4071960" cy="5146560"/>
          </a:xfrm>
        </p:grpSpPr>
        <p:sp>
          <p:nvSpPr>
            <p:cNvPr id="450" name=""/>
            <p:cNvSpPr/>
            <p:nvPr/>
          </p:nvSpPr>
          <p:spPr>
            <a:xfrm>
              <a:off x="7477200" y="482760"/>
              <a:ext cx="4071960" cy="5146560"/>
            </a:xfrm>
            <a:prstGeom prst="rect">
              <a:avLst/>
            </a:prstGeom>
            <a:gradFill rotWithShape="0">
              <a:gsLst>
                <a:gs pos="0">
                  <a:srgbClr val="000001"/>
                </a:gs>
                <a:gs pos="100000">
                  <a:srgbClr val="191919"/>
                </a:gs>
              </a:gsLst>
              <a:lin ang="5400000"/>
            </a:gradFill>
            <a:ln w="0">
              <a:noFill/>
            </a:ln>
            <a:effectLst>
              <a:outerShdw dist="228470" dir="4740526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90040" y="812880"/>
              <a:ext cx="3447720" cy="44640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fffffe"/>
                </a:gs>
              </a:gsLst>
              <a:lin ang="16200000"/>
            </a:gradFill>
            <a:ln w="507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50800" y="1130400"/>
            <a:ext cx="5531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124840" y="1122120"/>
            <a:ext cx="2789280" cy="3863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rmAutofit fontScale="65000"/>
          </a:bodyPr>
          <a:p>
            <a:pPr marL="22284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1447920" y="5470560"/>
            <a:ext cx="5526000" cy="3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1447560" y="318600"/>
            <a:ext cx="5538600" cy="3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8787-AFAD-4A90-AB91-E1888D180615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/>
          <p:nvPr/>
        </p:nvCxnSpPr>
        <p:spPr>
          <a:xfrm>
            <a:off x="1447920" y="3142800"/>
            <a:ext cx="552780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 fontScale="81000"/>
          </a:bodyPr>
          <a:p>
            <a:pPr marL="27756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AF21-BF38-4422-A0CC-B38B926B4B17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9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38840" y="798480"/>
            <a:ext cx="1614600" cy="46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4680" y="798480"/>
            <a:ext cx="7826400" cy="46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7508-909F-4662-94D4-6DAC4952F16E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9438840" y="798120"/>
            <a:ext cx="2520" cy="466164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13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E85A-7DF3-4E0F-8C00-5D4621BB66AD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18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4040" y="1755360"/>
            <a:ext cx="864072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3680" y="3806640"/>
            <a:ext cx="8628120" cy="1011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22000"/>
          </a:bodyPr>
          <a:p>
            <a:pPr marL="7524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5A5D-E13D-48EE-B0DD-94C7A747AA70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/>
          <p:nvPr/>
        </p:nvCxnSpPr>
        <p:spPr>
          <a:xfrm>
            <a:off x="1454040" y="3804840"/>
            <a:ext cx="863208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2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9360" y="804600"/>
            <a:ext cx="96026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7920" y="2011320"/>
            <a:ext cx="464328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EA11-C71D-4644-A4C3-8D0CB5ED8381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7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7560" y="804960"/>
            <a:ext cx="96058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7920" y="2018880"/>
            <a:ext cx="4643280" cy="8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7000"/>
          </a:bodyPr>
          <a:p>
            <a:pPr marL="5832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90FC-5DBB-4B9E-B237-B70017CAAF42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31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23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4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E374-396A-4363-AD6F-815DBDFC2239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361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62" name="PlaceHolder 1"/>
          <p:cNvSpPr>
            <a:spLocks noGrp="1"/>
          </p:cNvSpPr>
          <p:nvPr>
            <p:ph type="dt" idx="25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26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7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300B-74DD-48DF-A87C-C33D2DFE55AC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15680" y="1398240"/>
            <a:ext cx="863604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Journée d’Apprentissage et de Partage Culturel Afric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3146040" y="2623680"/>
            <a:ext cx="8636040" cy="644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Une initiative solidaire pour l’inclusion et l’é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239120" y="3692520"/>
            <a:ext cx="725652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orteur : YANLOM'S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Date :10 décembre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ieu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airie de Paris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Contact : associationyanlomsprod@gmail .com 00 33 07 83 91 46 44 /0033 0605662376/0023566999597/686876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6168960"/>
            <a:ext cx="12192120" cy="368280"/>
          </a:xfrm>
          <a:prstGeom prst="rect">
            <a:avLst/>
          </a:prstGeom>
          <a:solidFill>
            <a:srgbClr val="dfd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venez Notre Partena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"/>
          <p:cNvSpPr/>
          <p:nvPr/>
        </p:nvSpPr>
        <p:spPr>
          <a:xfrm>
            <a:off x="880920" y="1844640"/>
            <a:ext cx="101710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450800" y="2998800"/>
          <a:ext cx="9605880" cy="441000"/>
        </p:xfrm>
        <a:graphic>
          <a:graphicData uri="http://schemas.openxmlformats.org/drawingml/2006/table">
            <a:tbl>
              <a:tblPr/>
              <a:tblGrid>
                <a:gridCol w="4803120"/>
                <a:gridCol w="4802760"/>
              </a:tblGrid>
              <a:tr h="441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1009800" y="1432080"/>
          <a:ext cx="10173600" cy="3847680"/>
        </p:xfrm>
        <a:graphic>
          <a:graphicData uri="http://schemas.openxmlformats.org/drawingml/2006/table">
            <a:tbl>
              <a:tblPr/>
              <a:tblGrid>
                <a:gridCol w="1996920"/>
                <a:gridCol w="4088520"/>
                <a:gridCol w="4088160"/>
              </a:tblGrid>
              <a:tr h="336240"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ive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ontant (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repar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3248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Bro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sur flyers et banderoles, mention dans les communications méd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16100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Ar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sur tous supports, mention verbale à l’événement, stand promotionn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</a:tr>
              <a:tr h="131796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5 000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grand format, mention médias/réseaux sociaux, stand premium, remerciem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46040" y="804960"/>
            <a:ext cx="79088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Ensemble, Faisons la Diffé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"/>
          <p:cNvSpPr/>
          <p:nvPr/>
        </p:nvSpPr>
        <p:spPr>
          <a:xfrm>
            <a:off x="1450800" y="1544760"/>
            <a:ext cx="96030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utenez l’inclusion, l’éducation et la diversité culturelle avec YANLOM'S PR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Votre engagement offrira transport, subsistances et espoir aux plus vulnér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ontactez-nous : </a:t>
            </a:r>
            <a:r>
              <a:rPr b="0" lang="fr-FR" sz="2000" spc="-1" strike="noStrike" u="sng">
                <a:solidFill>
                  <a:srgbClr val="fa2b5c"/>
                </a:solidFill>
                <a:uFillTx/>
                <a:latin typeface="Gill Sans MT"/>
              </a:rPr>
              <a:t>associationyanlomsprod@gmail,com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, 00 33 07 83 91 46 44 /06056623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0" y="6243480"/>
            <a:ext cx="12192120" cy="456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98960" y="4502160"/>
            <a:ext cx="57927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71e42"/>
                </a:solidFill>
                <a:latin typeface="Gill Sans MT"/>
              </a:rPr>
              <a:t>Participez à une aventure solidaire et culturel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46040" y="804960"/>
            <a:ext cx="79088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our aller plus lo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"/>
          <p:cNvSpPr/>
          <p:nvPr/>
        </p:nvSpPr>
        <p:spPr>
          <a:xfrm>
            <a:off x="1450800" y="1544760"/>
            <a:ext cx="96030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4572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nnexes disponibles : Dossier complet, rapports statistiques, planning détail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ontact : </a:t>
            </a: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Mme SOLKAM YANLOM Félicité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, Présidente YANLOM'S PROD             Mail: </a:t>
            </a:r>
            <a:r>
              <a:rPr b="0" lang="fr-FR" sz="2000" spc="-1" strike="noStrike" u="sng">
                <a:solidFill>
                  <a:srgbClr val="fa2b5c"/>
                </a:solidFill>
                <a:uFillTx/>
                <a:latin typeface="Gill Sans MT"/>
              </a:rPr>
              <a:t>associationyanlomsprod@gmail,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Tel: 00 33 07 83 91 46 4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0" y="6243480"/>
            <a:ext cx="12192120" cy="456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98960" y="4502160"/>
            <a:ext cx="57927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71e42"/>
                </a:solidFill>
                <a:latin typeface="Gill Sans MT"/>
              </a:rPr>
              <a:t>Participez à une aventure solidaire et culturel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93840" y="534600"/>
            <a:ext cx="96026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Invitation à la Solidarit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"/>
          <p:cNvSpPr/>
          <p:nvPr/>
        </p:nvSpPr>
        <p:spPr>
          <a:xfrm>
            <a:off x="1495440" y="3746520"/>
            <a:ext cx="96026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bjectif : Promouvoir l’inclusion sociale à Paris et soutenir l’éducation en Afriqu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artenaires visés VOUS 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5629320"/>
            <a:ext cx="12192120" cy="395280"/>
          </a:xfrm>
          <a:prstGeom prst="rect">
            <a:avLst/>
          </a:prstGeom>
          <a:solidFill>
            <a:srgbClr val="dfd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200240" y="1096920"/>
            <a:ext cx="938520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00000"/>
                </a:solidFill>
                <a:latin typeface="Gill Sans MT"/>
              </a:rPr>
              <a:t>YANLOM'S PROD vous invite à soutenir un événement culturel et solidaire d’enverg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0" y="6202440"/>
            <a:ext cx="12192120" cy="522360"/>
          </a:xfrm>
          <a:prstGeom prst="rect">
            <a:avLst/>
          </a:prstGeom>
          <a:solidFill>
            <a:srgbClr val="b0a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79120" y="815760"/>
            <a:ext cx="960444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Journée pour l’Inclusion et l’Espoi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5600" y="1531800"/>
            <a:ext cx="46450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Quoi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Journée culturelle avec ateliers de danse, musique, conte, défilé, transport adapté et distribution de subsistanc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Quand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11 octobre 2025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90680" y="1531800"/>
            <a:ext cx="6653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ù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Mairie de Paris 14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ourquoi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8576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ffrir joie et dignité aux personnes vulnérables (personnes âgées, enfants en situation de handicap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8576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Collecter 5 000 € pour 200 kits scolaires et 50 équipements d’assistance en Afriqu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59680" y="4484520"/>
            <a:ext cx="832644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Gill Sans MT"/>
              </a:rPr>
              <a:t>Données clées</a:t>
            </a:r>
            <a:r>
              <a:rPr b="0" lang="fr-FR" sz="1800" spc="-1" strike="noStrike">
                <a:solidFill>
                  <a:srgbClr val="ff0000"/>
                </a:solidFill>
                <a:latin typeface="Gill Sans MT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1,2M de personnes âgées isolées en France (Petits Frères des Pauvres, 202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30M d’enfants sans accès à l’éducation en Afrique (UNESCO, 202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9000" y="804600"/>
            <a:ext cx="9604440" cy="4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Qui Sommes-Nous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-360" y="1607760"/>
            <a:ext cx="1105380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ssociation fondée en 2023 à Pari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ission : Promouvoir les cultures africaines et soutenir les populations vulnérabl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éalisations : Œuvres caritatives, soirées culturelles, foires, journées et atéli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Valeurs : Solidarité, inclusion, diversité culturel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96012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lus de 20 événements culturels, touchant 5 000 personn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96012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artenariats avec la Mairie de Paris 14e et autres acteurs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-360" y="6141960"/>
            <a:ext cx="12192120" cy="627120"/>
          </a:xfrm>
          <a:prstGeom prst="rect">
            <a:avLst/>
          </a:prstGeom>
          <a:solidFill>
            <a:srgbClr val="b0a697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8008920" y="2027160"/>
            <a:ext cx="418320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50440" y="804960"/>
            <a:ext cx="9603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os Ambi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/>
          <p:nvPr/>
        </p:nvSpPr>
        <p:spPr>
          <a:xfrm>
            <a:off x="1339920" y="2016000"/>
            <a:ext cx="9602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Inclusion social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Rassembler 500 personnes vulnérables (personnes âgées isolées, jeunes, orphelins, enfants en situation de handica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utien humanitair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Financer l’éducation et la mobilité des enfants en Afrique (Tchad, Congo, Côte d’Ivoire, Camero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romotion culturell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Valoriser les traditions africa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0" y="6186600"/>
            <a:ext cx="122839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9000" y="804600"/>
            <a:ext cx="96044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rogramme et Impa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47880" y="1476360"/>
            <a:ext cx="5573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Activité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Ateliers : Danse africaine, musique (piano, guitare, percussions), chant, conte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Défilé en habits traditionnel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Vente solidaire de repas et boisson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Transport : Location de 2 bus pour enfants en situation de handicap et personnes âgée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Distribution : 100 paquets de subsistances (enfants et personnes âgée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51040" y="1482840"/>
            <a:ext cx="464508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ésultats attendu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500 participants à Pari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15 000 € collecté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200 kits scolaires et 50 équipements d’assistance distribué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nforcement des liens interculturels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4400" y="6261120"/>
            <a:ext cx="1219176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Qui Bénéficiera de Votre Soutien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"/>
          <p:cNvSpPr/>
          <p:nvPr/>
        </p:nvSpPr>
        <p:spPr>
          <a:xfrm>
            <a:off x="1450800" y="2016000"/>
            <a:ext cx="9603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À Pari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Personnes âgées isolées, jeunes, orphelins, enfants des rues, enfants en situation de handicap (500 bénéficiaires de subsista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En Afriqu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Enfants scolarisés ou en situation de handicap (Tchad, Congo, Côte d’Ivoire, Camero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ourquoi Soutenir ce Projet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"/>
          <p:cNvSpPr/>
          <p:nvPr/>
        </p:nvSpPr>
        <p:spPr>
          <a:xfrm>
            <a:off x="1015920" y="1616040"/>
            <a:ext cx="96030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Institutions 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Alignement avec les ODD (Éducation, Réduction des inégalités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Visibilité international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ecteur privé 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nforcement de la responsabilité sociale d’entreprise (RSE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romotion auprès d’une audience diversifié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ciété civile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Contribution à une cause inclusive et solidair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63840" y="574200"/>
            <a:ext cx="96026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os besoi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-9360" y="6335640"/>
            <a:ext cx="1219176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19080" y="2324160"/>
            <a:ext cx="51674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16040" y="1957320"/>
          <a:ext cx="10243800" cy="3358800"/>
        </p:xfrm>
        <a:graphic>
          <a:graphicData uri="http://schemas.openxmlformats.org/drawingml/2006/table">
            <a:tbl>
              <a:tblPr/>
              <a:tblGrid>
                <a:gridCol w="10243800"/>
              </a:tblGrid>
              <a:tr h="33084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50 équipements d’assistance (béquilles, chaises roulantes, déambulateur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 algn="just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300 kits scolai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30888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de la sa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de 2 bus pour transporter les enfants et les personnes handicapé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pas ou paquets de subsistances pour bénéficiai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59544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instruments de musi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30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Kits de santé et matériel mé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ébergement des artis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65448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Frais de transport Artistes bénévo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mation des bénévo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30996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Agents de sécur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7-28T10:28:16Z</dcterms:created>
  <dc:creator>test1</dc:creator>
  <dc:description/>
  <dc:language>en-US</dc:language>
  <cp:lastModifiedBy/>
  <dcterms:modified xsi:type="dcterms:W3CDTF">2025-10-23T18:23:01Z</dcterms:modified>
  <cp:revision>28</cp:revision>
  <dc:subject/>
  <dc:title>Journée d’Apprentissage et de Partage Culturel Africai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2</vt:r8>
  </property>
</Properties>
</file>